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png" ContentType="image/png"/>
  <Override PartName="/ppt/media/image7.jpeg" ContentType="image/jpeg"/>
  <Override PartName="/ppt/media/image11.wmf" ContentType="image/x-wmf"/>
  <Override PartName="/ppt/media/image20.jpeg" ContentType="image/jpeg"/>
  <Override PartName="/ppt/media/image17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53000" y="-36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860400" y="736200"/>
            <a:ext cx="4905360" cy="36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1968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53000" y="9319680"/>
            <a:ext cx="286992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CED8A31-B7F4-4B44-8862-308D0AB2BC5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y the end of the Challenge </a:t>
            </a:r>
            <a:r>
              <a:rPr b="0" i="1" lang="en-AU" sz="12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articipants were aware of the health benefits of regular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ries 1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ries 2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9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re confident in achieving moderate levels of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5.6% decrease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ot confident at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.8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derately conf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eeting the physical activity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.1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oderat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eeting the physical activity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4.2% increas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gorous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were spending more time exercising per week (moderate physica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80 minutes per week per person (ave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y the end of the Challenge </a:t>
            </a:r>
            <a:r>
              <a:rPr b="0" i="1" lang="en-AU" sz="1200" spc="-1" strike="noStrike">
                <a:solidFill>
                  <a:srgbClr val="cc3300"/>
                </a:solidFill>
                <a:latin typeface="Arial"/>
              </a:rPr>
              <a:t>more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articipants wer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alking or cycling for short 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11.1% in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ll of th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2.8% in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ost of th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11.8% de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ometi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4.4% decrease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Session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ducate particip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bout benefits of physical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w to increase the number of ste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plain what is required during the 10,000 Step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pportunity to link into Recreation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s given resource kit – </a:t>
            </a: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only if medical questionnaire, pre challenge questionnaire were retur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ALLENGE COMM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articipants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eedback session -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ource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cc3300"/>
                </a:solidFill>
                <a:latin typeface="Arial"/>
              </a:rPr>
              <a:t>Collection Card – allows you to collect Pedometer from Ruth Faulkner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edometer                            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og Book –                            records number of               steps taken each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ost Challenge               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ty of Belmont Trails Broch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ty of Belmont Access and Facilities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nd Thirty” brochure – gives ideas on how to incorporate physical activity into you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chures on other Recreation and Health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60400" y="736560"/>
            <a:ext cx="4905360" cy="3678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results from the log books, pre and post – challenge questionnaire’s were collated and the data was then forwarded to East Metro Population Health Unit fo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7B7-5493-4EBF-B5AD-9D83384D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1A3-AA01-4A9E-9F9D-BB99F630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1B6-19FA-4A4A-82E4-14EB1188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DDD-23C6-41BD-931D-2F732D17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4478-7EE6-4C7F-9F0A-2D18946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580-25D1-4358-9519-0FED331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C433-6082-47EB-A663-3BCE635D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675-4959-4197-BEAD-52486F4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B39D-77F8-4B59-90D9-9417F748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7653-61A1-45C4-9A4F-2ECCCA8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C62F-ACC5-46C2-9A99-519BB958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B77-B3A5-4830-ABBF-094102C0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E2FC-6A17-476D-89BB-9CF6B8E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83A1-62B6-4E27-AB9B-39738B4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743C-A82E-44BD-A59E-F590B251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F4F4-71BC-44A7-8664-30C666A7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20574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41666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764C-5C72-46DA-91F6-B4043512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970-E484-4BAE-BC78-039D5F43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A0C-0C36-4099-8C7C-5F49C1E1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73D-8A7E-4506-A977-7476708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288-93F2-4492-A5B9-33764C4A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048-50EC-4C73-802B-91571AC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13720" y="41666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243-B0E3-4B93-98B6-4F985015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0574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1666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147-BEDA-4464-ADE8-0C22FA3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2E18-B4A1-4A6F-9FBC-89C4126C3E9A}" type="slidenum">
              <a:rPr b="1" lang="en-A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1676520"/>
            <a:ext cx="7391520" cy="318960"/>
            <a:chOff x="228600" y="1676520"/>
            <a:chExt cx="7391520" cy="318960"/>
          </a:xfrm>
        </p:grpSpPr>
        <p:sp>
          <p:nvSpPr>
            <p:cNvPr id="7" name=""/>
            <p:cNvSpPr/>
            <p:nvPr/>
          </p:nvSpPr>
          <p:spPr>
            <a:xfrm>
              <a:off x="609480" y="16765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8600" y="167652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5491" t="10785" r="9123" b="17569"/>
          <a:stretch/>
        </p:blipFill>
        <p:spPr>
          <a:xfrm>
            <a:off x="7308720" y="0"/>
            <a:ext cx="1595520" cy="15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B486-B599-49FF-994D-14F47E3DCC46}" type="slidenum">
              <a:rPr b="1" lang="en-A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5491" t="10785" r="9123" b="17569"/>
          <a:stretch/>
        </p:blipFill>
        <p:spPr>
          <a:xfrm>
            <a:off x="7315200" y="1392120"/>
            <a:ext cx="1523880" cy="145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5491" t="10785" r="9123" b="17569"/>
          <a:stretch/>
        </p:blipFill>
        <p:spPr>
          <a:xfrm>
            <a:off x="6553080" y="0"/>
            <a:ext cx="152424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Andrew.Ward@belmont.wa.gov.au" TargetMode="External"/><Relationship Id="rId2" Type="http://schemas.openxmlformats.org/officeDocument/2006/relationships/hyperlink" Target="mailto:Jodi.Cronan@belmont.wa.gov.a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ba.uri.edu/scholl/" TargetMode="External"/><Relationship Id="rId2" Type="http://schemas.openxmlformats.org/officeDocument/2006/relationships/hyperlink" Target="http://www.cba.uri.edu/scholl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6914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Britannic Bold"/>
                <a:ea typeface="Times New Roman"/>
              </a:rPr>
              <a:t>City of Belmont</a:t>
            </a:r>
            <a:br>
              <a:rPr sz="5400"/>
            </a:br>
            <a:r>
              <a:rPr b="0" lang="en-US" sz="5400" spc="-1" strike="noStrike">
                <a:solidFill>
                  <a:srgbClr val="003366"/>
                </a:solidFill>
                <a:latin typeface="Curlz MT"/>
                <a:ea typeface="Times New Roman"/>
              </a:rPr>
              <a:t>10,000 Steps Challenge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1600200" cy="13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1676160" cy="941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76720" y="189000"/>
            <a:ext cx="187308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09480" y="594360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This project is an initiative of the Physical Activity Taskforce, made possible by the WA Local Government Association through a Lotterywest grant.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590920" y="4572000"/>
            <a:ext cx="243828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32720" y="4941720"/>
            <a:ext cx="2016000" cy="7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1. Encourage community participation 2. Ensure the project is enjoyable and challenging for participa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637000"/>
            <a:ext cx="80010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180 particip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Arial"/>
              </a:rPr>
              <a:t>Approx 50 staff including Councillors and Senior Manag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3366"/>
                </a:solidFill>
                <a:latin typeface="Arial"/>
              </a:rPr>
              <a:t>Approx 130 resi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Information s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Positive participant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7162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3. Educate participants on the benefits of physical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92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3108240"/>
          <a:ext cx="7080480" cy="37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08240"/>
                    <a:ext cx="7080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24000" y="19890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% of participants that were aware regular physical activity has positive health benefi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933720"/>
            <a:ext cx="503280" cy="1366920"/>
          </a:xfrm>
          <a:prstGeom prst="upArrow">
            <a:avLst>
              <a:gd name="adj1" fmla="val 50000"/>
              <a:gd name="adj2" fmla="val 6790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3. Educate participants on the benefits of physical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58920" y="2852640"/>
          <a:ext cx="685800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52640"/>
                    <a:ext cx="68580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5640" y="21337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% of participants who set goals for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573360"/>
            <a:ext cx="485640" cy="1119240"/>
          </a:xfrm>
          <a:prstGeom prst="upArrow">
            <a:avLst>
              <a:gd name="adj1" fmla="val 50000"/>
              <a:gd name="adj2" fmla="val 57617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session at the start of each 10,000 Steps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increase steps taken per day throughout the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aim to walk 10,000 steps or more per 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-630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0 mins per Day, Log book indicat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3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941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average number of steps taken per day was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s 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05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ies 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964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% of People who met Physical Activity Guidelines (150 mins/week moderate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24000" y="2998800"/>
          <a:ext cx="4853160" cy="385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98800"/>
                    <a:ext cx="48531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635280" y="3500280"/>
            <a:ext cx="505080" cy="1368720"/>
          </a:xfrm>
          <a:prstGeom prst="upArrow">
            <a:avLst>
              <a:gd name="adj1" fmla="val 50000"/>
              <a:gd name="adj2" fmla="val 6774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% of People who met Physical Activity Guidelines (150 mins/week vigorous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500280"/>
            <a:ext cx="505080" cy="1368720"/>
          </a:xfrm>
          <a:prstGeom prst="upArrow">
            <a:avLst>
              <a:gd name="adj1" fmla="val 50000"/>
              <a:gd name="adj2" fmla="val 6774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87280" y="3068640"/>
          <a:ext cx="676296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068640"/>
                    <a:ext cx="67629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492360" y="3645000"/>
            <a:ext cx="432000" cy="8636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4. Ensure participants were aware of the physical activity levels needed to lead a healthy lifestyle (cont…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03280" y="2098800"/>
          <a:ext cx="6048360" cy="47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98800"/>
                    <a:ext cx="6048360" cy="47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596360" y="3645000"/>
            <a:ext cx="288720" cy="718920"/>
          </a:xfrm>
          <a:prstGeom prst="upArrow">
            <a:avLst>
              <a:gd name="adj1" fmla="val 50000"/>
              <a:gd name="adj2" fmla="val 6225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1640" y="436572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3645000"/>
            <a:ext cx="93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51640" y="4797360"/>
            <a:ext cx="14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3366"/>
                </a:solidFill>
                <a:latin typeface="Arial"/>
              </a:rPr>
              <a:t>By end of Challenge approx 16% more people were walking 10,000 or more steps per da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5. Promote positive lifestyle cha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2982960"/>
          <a:ext cx="5882040" cy="38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82960"/>
                    <a:ext cx="58820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9640" y="220500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220500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6666"/>
                </a:solidFill>
                <a:latin typeface="Arial"/>
              </a:rPr>
              <a:t>Total Minutes spent exercising in the previous week (moderate P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3716280"/>
            <a:ext cx="485640" cy="760320"/>
          </a:xfrm>
          <a:prstGeom prst="upArrow">
            <a:avLst>
              <a:gd name="adj1" fmla="val 50000"/>
              <a:gd name="adj2" fmla="val 3914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5. Promote positive lifestyle changes (cont…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79640" y="2778120"/>
          <a:ext cx="5391000" cy="40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78120"/>
                    <a:ext cx="539100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611280" y="2133720"/>
            <a:ext cx="83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33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% of Participants who walk or cycle for short trips (less than 1k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4581360"/>
            <a:ext cx="0" cy="165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501300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59280" y="515772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5877000"/>
            <a:ext cx="0" cy="358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experienc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69608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t and broken pedome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brary closure resulted in some delays for the return of pedometer’s, log books and questionnaire’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mplete Post-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not finishing 12 wee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236000" y="4149720"/>
            <a:ext cx="153180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ity of Belmont Recreatio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Links to Recreation Services - Directions for the Future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Funding sourced for 10,000 Steps Project from Physical Activity Task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to from her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21680" y="4827600"/>
            <a:ext cx="1822320" cy="2030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1447920" cy="2205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2205000"/>
            <a:ext cx="84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participants to KEEP EXCERS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dometers can be hired from the libr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eries of 10,000 Steps Challenge to run in conjunction with new initiative - Belmont Forum Walking Group – Starting in May ’0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y of Belmo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reatio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97868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Andrew 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oordinator - Recre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h: 9477 7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AU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ndrew.Ward@belmont.wa.gov.au</a:t>
            </a: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Jodi Cron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Recreation Project Offic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Ph: 9477 72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Email: </a:t>
            </a:r>
            <a:r>
              <a:rPr b="0" lang="en-AU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Jodi.Cronan@belmont.wa.gov.a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007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The 10,000 Steps Project 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227664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courage community particip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the project is enjoyable and challenging for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ducate participants on the benefits of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participants are aware of the physical activity levels needed to lead a healthy lifesty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te positive lifestyle changes to particip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the 10,000 Steps Challenge consist of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76360" y="205740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2 wee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rd the number of steps you take each da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using log book and walking pedometer provi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 to increase the number of steps you take each day over the 12 week peri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porate 30 minutes of physical activity into your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13688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0,000 Steps Challe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84720" y="2060640"/>
            <a:ext cx="288324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2057400"/>
            <a:ext cx="495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ries 1 – March 2004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80 participa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ries 2 – September 2004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100 participa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id the COB Implement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10,000 Steps Challeng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ccessful funding application 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hysical Activity Taskforce, Local Activity Grants Prog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nerships – library, EMP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chase Pedometer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 resources -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g Book, Information Sheet, Questionnaires, Fly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vertise Challen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o register for project, by completing registration sheet, medical questionnaire and Pre-Challenge questionna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ff involv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l busines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cal resid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icipants required to attend information session at beginning of challe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1000" y="508464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Data coll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 / Post Questionnaire’s, Logbooks - EMP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effectiveness of the 10 000 Steps Project v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ysical Activity Lev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moting Lifestyle Chan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.e. Goal setting for physical acti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.e. Walking for Short Tr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e the awareness of the benefits of physical activ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Promotional Strategi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l of Behavioral Change</a:t>
            </a:r>
            <a:r>
              <a:rPr b="1" lang="en-US" sz="3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_x000b_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537336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ichard W. Scholl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 Professor of Management, University of 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0908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000" spc="-1" strike="noStrike">
                <a:solidFill>
                  <a:srgbClr val="006666"/>
                </a:solidFill>
                <a:latin typeface="Arial"/>
              </a:rPr>
              <a:t>Did the 10,000 Steps Challenge Meet Objectives?</a:t>
            </a:r>
            <a:endParaRPr b="1" lang="en-US" sz="7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5:27:36Z</dcterms:created>
  <dc:creator>City of Belmont</dc:creator>
  <dc:description/>
  <dc:language>en-US</dc:language>
  <cp:lastModifiedBy>DPC</cp:lastModifiedBy>
  <dcterms:modified xsi:type="dcterms:W3CDTF">2005-04-11T06:38:15Z</dcterms:modified>
  <cp:revision>198</cp:revision>
  <dc:subject/>
  <dc:title>10000 Steps Project</dc:title>
</cp:coreProperties>
</file>